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B7EE-6419-4A00-933A-AD33AED2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7CF94-A3DD-483D-92DD-60437EAF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4E376-A7D7-4E07-BC3C-FF3132CB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2F94-AFA2-4DB8-85A5-F1B10F00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F8D4-D4A1-4801-AD5B-D33FDAAF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B1A9-DAD8-40F0-8B30-A816DC61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CE38-827B-4C4A-A972-B4116214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0524-795D-45A7-B6C1-0D11260E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0B94-A476-4922-B9C3-C03CAE45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4235-D46C-417B-ABAD-ADC05042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FA5B-B09E-4D66-9587-A26E5F27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6B56F-7920-4D9F-8A56-0E9100CB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2FE5-1E0E-42B7-982D-0B0A5F5B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A7B8-8856-47AF-AC5C-5BA8277F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1BBB-B40A-468C-9675-F40A1160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64F5-D930-415F-A871-7EB6DEC3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2E51-AB3F-4486-851F-90CE458A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296C-E11F-4BB9-961C-2A753601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38B13-FC49-4261-8B42-20BB3018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A2AED-AA7C-4603-BF50-93A1C509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3B05-3A32-4E0E-85E6-B07D54DF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E0978-FFC4-4190-9AAE-6567E287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14EC7-B7CF-4533-B6A1-671CCBAF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5D3F4-DA96-4BA6-AC58-44FB1556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D43C-B10A-4C17-96AA-A8C6349D16A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ECA9-03BA-44AE-9A00-B03D550EECA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40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46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.11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При Исуса, уморения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ебе чака Т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мери там облекчени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елезите виж в ребра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Христа разпе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ръцете, на нозете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рани пе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Ако ида аз след Него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ме награди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ук ще срещнеш труд, гонени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ълз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Ако Му докрай слугув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о би ми дал Той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ир небесен, вечна сл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пок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5. Верно ли Той благослав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ички на света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ъченици и пророц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зват: „Да!”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7T16:42:30Z</dcterms:modified>
  <cp:revision>181</cp:revision>
  <dc:subject/>
  <dc:title>Slide 1</dc:title>
</cp:coreProperties>
</file>